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wmf" ContentType="image/x-wmf"/>
  <Override PartName="/ppt/media/image3.wmf" ContentType="image/x-wmf"/>
  <Override PartName="/ppt/media/image28.wmf" ContentType="image/x-wmf"/>
  <Override PartName="/ppt/media/image5.wmf" ContentType="image/x-wmf"/>
  <Override PartName="/ppt/media/image30.wmf" ContentType="image/x-wmf"/>
  <Override PartName="/ppt/media/image10.wmf" ContentType="image/x-wmf"/>
  <Override PartName="/ppt/media/image29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2.wmf" ContentType="image/x-wmf"/>
  <Override PartName="/ppt/media/image25.wmf" ContentType="image/x-wmf"/>
  <Override PartName="/ppt/media/image4.wmf" ContentType="image/x-wmf"/>
  <Override PartName="/ppt/media/image27.wmf" ContentType="image/x-wmf"/>
  <Override PartName="/ppt/media/image1.jpeg" ContentType="image/jpeg"/>
  <Override PartName="/ppt/media/image15.wmf" ContentType="image/x-wmf"/>
  <Override PartName="/ppt/media/image14.jpeg" ContentType="image/jpeg"/>
  <Override PartName="/ppt/media/image16.wmf" ContentType="image/x-wmf"/>
  <Override PartName="/ppt/media/image17.wmf" ContentType="image/x-wmf"/>
  <Override PartName="/ppt/media/image19.wmf" ContentType="image/x-wmf"/>
  <Override PartName="/ppt/media/image21.wmf" ContentType="image/x-wmf"/>
  <Override PartName="/ppt/media/image18.png" ContentType="image/png"/>
  <Override PartName="/ppt/media/image20.wmf" ContentType="image/x-wmf"/>
  <Override PartName="/ppt/media/image26.jpeg" ContentType="image/jpeg"/>
  <Override PartName="/ppt/media/image22.wmf" ContentType="image/x-wmf"/>
  <Override PartName="/ppt/media/image2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D0100-93A2-4CAC-95D5-5B8D5276B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CCB1C-C9B9-4AF5-8718-614DA0B1C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40EF2-E20E-49A3-A384-F3EBD72D6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15119-C27B-47AE-B59A-3E31230C8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3B9B2-06A0-4367-8036-B36EB5B82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2308C-156B-45B3-8EDA-7354B94D4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BE400-8B2D-4411-A9CD-AF4A73347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530C7-6AEF-4CBE-9671-289B64B7A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6854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8D4C8-AC68-485F-BC0D-463D91C33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D1E45-161A-4135-91C2-8EF3B2AB8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67ABC-F9DF-4D79-87AB-D74CAE038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2518E-D2C9-417B-81A0-EBFC99C94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66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E135B-6189-4C2C-A7EC-6037153513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66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533520" y="533520"/>
            <a:ext cx="8001000" cy="5790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Поведение и начин на хранене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66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41144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8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Коя е подходящата диета?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BDG00042" descr=""/>
          <p:cNvPicPr/>
          <p:nvPr/>
        </p:nvPicPr>
        <p:blipFill>
          <a:blip r:embed="rId1"/>
          <a:stretch/>
        </p:blipFill>
        <p:spPr>
          <a:xfrm>
            <a:off x="3124080" y="1066680"/>
            <a:ext cx="3162600" cy="286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66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720" y="12189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8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Бог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определи храна за Адам и Ева: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352680" y="3352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Зърнени храни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Плодове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Орехи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Зеленчуци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BDG00063" descr=""/>
          <p:cNvPicPr/>
          <p:nvPr/>
        </p:nvPicPr>
        <p:blipFill>
          <a:blip r:embed="rId1"/>
          <a:stretch/>
        </p:blipFill>
        <p:spPr>
          <a:xfrm>
            <a:off x="0" y="3911760"/>
            <a:ext cx="2540160" cy="2946240"/>
          </a:xfrm>
          <a:prstGeom prst="rect">
            <a:avLst/>
          </a:prstGeom>
          <a:ln w="0">
            <a:noFill/>
          </a:ln>
        </p:spPr>
      </p:pic>
      <p:pic>
        <p:nvPicPr>
          <p:cNvPr id="68" name="BCQ00032" descr=""/>
          <p:cNvPicPr/>
          <p:nvPr/>
        </p:nvPicPr>
        <p:blipFill>
          <a:blip r:embed="rId2"/>
          <a:stretch/>
        </p:blipFill>
        <p:spPr>
          <a:xfrm>
            <a:off x="6794640" y="4330800"/>
            <a:ext cx="2349360" cy="252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66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3809520"/>
            <a:ext cx="86104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8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Times New Roman"/>
              </a:rPr>
              <a:t>Апетитът не е сигурен водач.</a:t>
            </a:r>
            <a:endParaRPr b="1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BEV00010" descr=""/>
          <p:cNvPicPr/>
          <p:nvPr/>
        </p:nvPicPr>
        <p:blipFill>
          <a:blip r:embed="rId1"/>
          <a:stretch/>
        </p:blipFill>
        <p:spPr>
          <a:xfrm>
            <a:off x="3657600" y="380880"/>
            <a:ext cx="1965240" cy="28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66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2590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8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Апетитът винаги трябва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да бъде подчинен на разума. Тялото трябва да служи на ума, а не умът на тялото”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4724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Диета и храна, Е. Вай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BEV00006" descr=""/>
          <p:cNvPicPr/>
          <p:nvPr/>
        </p:nvPicPr>
        <p:blipFill>
          <a:blip r:embed="rId1"/>
          <a:stretch/>
        </p:blipFill>
        <p:spPr>
          <a:xfrm>
            <a:off x="0" y="4487760"/>
            <a:ext cx="2211480" cy="23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66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480" y="2742840"/>
            <a:ext cx="96012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8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Доброто хранене започва </a:t>
            </a:r>
            <a:br>
              <a:rPr sz="6600"/>
            </a:b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с добра закуска.</a:t>
            </a:r>
            <a:endParaRPr b="1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CJE50059" descr=""/>
          <p:cNvPicPr/>
          <p:nvPr/>
        </p:nvPicPr>
        <p:blipFill>
          <a:blip r:embed="rId1"/>
          <a:stretch/>
        </p:blipFill>
        <p:spPr>
          <a:xfrm>
            <a:off x="6850080" y="2438280"/>
            <a:ext cx="2293920" cy="22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66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71600" y="7617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8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Закуската: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828440" y="2286000"/>
            <a:ext cx="67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Тя трябва да съдържа: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лодове и плодови сокове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ълноценни зърнени хран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Орехи и ядк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Тя трябва да бъде най-голямото ядене за деня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Тя може да подобри успеха на детето в училище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BDB50040" descr=""/>
          <p:cNvPicPr/>
          <p:nvPr/>
        </p:nvPicPr>
        <p:blipFill>
          <a:blip r:embed="rId1"/>
          <a:stretch/>
        </p:blipFill>
        <p:spPr>
          <a:xfrm>
            <a:off x="6446880" y="0"/>
            <a:ext cx="2697120" cy="2155680"/>
          </a:xfrm>
          <a:prstGeom prst="rect">
            <a:avLst/>
          </a:prstGeom>
          <a:ln w="0">
            <a:noFill/>
          </a:ln>
        </p:spPr>
      </p:pic>
      <p:pic>
        <p:nvPicPr>
          <p:cNvPr id="79" name="BFN00007" descr=""/>
          <p:cNvPicPr/>
          <p:nvPr/>
        </p:nvPicPr>
        <p:blipFill>
          <a:blip r:embed="rId2"/>
          <a:stretch/>
        </p:blipFill>
        <p:spPr>
          <a:xfrm>
            <a:off x="0" y="4330800"/>
            <a:ext cx="2211480" cy="252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66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680" y="2742840"/>
            <a:ext cx="73152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8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Най-подходяща е вегетарианската диета.</a:t>
            </a:r>
            <a:endParaRPr b="1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BGD00048" descr=""/>
          <p:cNvPicPr/>
          <p:nvPr/>
        </p:nvPicPr>
        <p:blipFill>
          <a:blip r:embed="rId1"/>
          <a:stretch/>
        </p:blipFill>
        <p:spPr>
          <a:xfrm>
            <a:off x="5867280" y="3581280"/>
            <a:ext cx="2943360" cy="291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66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-2362680" y="3123720"/>
            <a:ext cx="1089684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8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Вегетарианците са </a:t>
            </a:r>
            <a:br>
              <a:rPr sz="6600"/>
            </a:b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по-издържливи </a:t>
            </a:r>
            <a:br>
              <a:rPr sz="6600"/>
            </a:b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и по-силни.</a:t>
            </a:r>
            <a:r>
              <a:rPr b="1" i="1" lang="en-US" sz="6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6600"/>
            </a:br>
            <a:endParaRPr b="1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CPC00007" descr=""/>
          <p:cNvPicPr/>
          <p:nvPr/>
        </p:nvPicPr>
        <p:blipFill>
          <a:blip r:embed="rId1"/>
          <a:stretch/>
        </p:blipFill>
        <p:spPr>
          <a:xfrm>
            <a:off x="0" y="4079880"/>
            <a:ext cx="2778120" cy="277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66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15998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8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Диета, съдържаща месо води до: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90360" y="3581280"/>
            <a:ext cx="6553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000000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Сърдечно-съдови заболявания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000000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Мозъчни инсулти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000000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Рак и тумори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BLU50059" descr=""/>
          <p:cNvPicPr/>
          <p:nvPr/>
        </p:nvPicPr>
        <p:blipFill>
          <a:blip r:embed="rId1"/>
          <a:stretch/>
        </p:blipFill>
        <p:spPr>
          <a:xfrm>
            <a:off x="6585120" y="4179960"/>
            <a:ext cx="2558880" cy="267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66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1980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8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Вегетарианската диета е по-ефтина.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BGD00018" descr=""/>
          <p:cNvPicPr/>
          <p:nvPr/>
        </p:nvPicPr>
        <p:blipFill>
          <a:blip r:embed="rId1"/>
          <a:stretch/>
        </p:blipFill>
        <p:spPr>
          <a:xfrm>
            <a:off x="2590920" y="4114800"/>
            <a:ext cx="3875040" cy="24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66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Фактори, оказващи влияние върху поведението на човека: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Наследственос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колна среда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Начин на хранене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CNY5000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914400" y="1219320"/>
            <a:ext cx="7864560" cy="230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8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bg-BG" sz="4400" spc="-1" strike="noStrike">
                <a:solidFill>
                  <a:srgbClr val="000000"/>
                </a:solidFill>
                <a:latin typeface="Times New Roman"/>
              </a:rPr>
              <a:t>Фактори, оказващи влияние върху поведението на човека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3200400"/>
            <a:ext cx="3733920" cy="1847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8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Наследственос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колна сред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Начин на хранен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66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440" y="2361960"/>
            <a:ext cx="84582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8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Непълноценни храни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CPU00008" descr=""/>
          <p:cNvPicPr/>
          <p:nvPr/>
        </p:nvPicPr>
        <p:blipFill>
          <a:blip r:embed="rId1"/>
          <a:stretch/>
        </p:blipFill>
        <p:spPr>
          <a:xfrm>
            <a:off x="0" y="4303800"/>
            <a:ext cx="2952720" cy="2554200"/>
          </a:xfrm>
          <a:prstGeom prst="rect">
            <a:avLst/>
          </a:prstGeom>
          <a:ln w="0">
            <a:noFill/>
          </a:ln>
        </p:spPr>
      </p:pic>
      <p:pic>
        <p:nvPicPr>
          <p:cNvPr id="91" name="BAM00004" descr=""/>
          <p:cNvPicPr/>
          <p:nvPr/>
        </p:nvPicPr>
        <p:blipFill>
          <a:blip r:embed="rId2"/>
          <a:stretch/>
        </p:blipFill>
        <p:spPr>
          <a:xfrm>
            <a:off x="6748560" y="4527720"/>
            <a:ext cx="2395440" cy="233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66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2120" y="2590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8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Рафинираните храни са лишени от жизнено важни съставки.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BAM00036" descr=""/>
          <p:cNvPicPr/>
          <p:nvPr/>
        </p:nvPicPr>
        <p:blipFill>
          <a:blip r:embed="rId1"/>
          <a:stretch/>
        </p:blipFill>
        <p:spPr>
          <a:xfrm>
            <a:off x="380880" y="4952880"/>
            <a:ext cx="2459160" cy="1474920"/>
          </a:xfrm>
          <a:prstGeom prst="rect">
            <a:avLst/>
          </a:prstGeom>
          <a:ln w="0">
            <a:noFill/>
          </a:ln>
        </p:spPr>
      </p:pic>
      <p:pic>
        <p:nvPicPr>
          <p:cNvPr id="94" name="BAS00021" descr=""/>
          <p:cNvPicPr/>
          <p:nvPr/>
        </p:nvPicPr>
        <p:blipFill>
          <a:blip r:embed="rId2"/>
          <a:stretch/>
        </p:blipFill>
        <p:spPr>
          <a:xfrm>
            <a:off x="6365880" y="4118040"/>
            <a:ext cx="2778120" cy="273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66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437920"/>
            <a:ext cx="81532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8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Ядене между храненията е вредно.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BAY00109" descr=""/>
          <p:cNvPicPr/>
          <p:nvPr/>
        </p:nvPicPr>
        <p:blipFill>
          <a:blip r:embed="rId1"/>
          <a:stretch/>
        </p:blipFill>
        <p:spPr>
          <a:xfrm>
            <a:off x="6850080" y="3524400"/>
            <a:ext cx="229392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66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680" y="3123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8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Пълноценна храна във възможно най-естествено състояние е най-подходяща.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BCV00008" descr=""/>
          <p:cNvPicPr/>
          <p:nvPr/>
        </p:nvPicPr>
        <p:blipFill>
          <a:blip r:embed="rId1"/>
          <a:stretch/>
        </p:blipFill>
        <p:spPr>
          <a:xfrm>
            <a:off x="0" y="0"/>
            <a:ext cx="2624040" cy="2185920"/>
          </a:xfrm>
          <a:prstGeom prst="rect">
            <a:avLst/>
          </a:prstGeom>
          <a:ln w="0">
            <a:noFill/>
          </a:ln>
        </p:spPr>
      </p:pic>
      <p:pic>
        <p:nvPicPr>
          <p:cNvPr id="99" name="BFN50013" descr=""/>
          <p:cNvPicPr/>
          <p:nvPr/>
        </p:nvPicPr>
        <p:blipFill>
          <a:blip r:embed="rId2"/>
          <a:stretch/>
        </p:blipFill>
        <p:spPr>
          <a:xfrm>
            <a:off x="6365880" y="4168800"/>
            <a:ext cx="27781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66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-360" y="2209320"/>
            <a:ext cx="92962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8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Направете храненето приятно преживяване 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за цялото семейство.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CPT00020" descr=""/>
          <p:cNvPicPr/>
          <p:nvPr/>
        </p:nvPicPr>
        <p:blipFill>
          <a:blip r:embed="rId1"/>
          <a:stretch/>
        </p:blipFill>
        <p:spPr>
          <a:xfrm>
            <a:off x="2743200" y="4343400"/>
            <a:ext cx="4076640" cy="21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66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1760" y="2666520"/>
            <a:ext cx="78483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8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Вечерята трябва да бъде лека.</a:t>
            </a:r>
            <a:endParaRPr b="1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CJE00232" descr=""/>
          <p:cNvPicPr/>
          <p:nvPr/>
        </p:nvPicPr>
        <p:blipFill>
          <a:blip r:embed="rId1"/>
          <a:stretch/>
        </p:blipFill>
        <p:spPr>
          <a:xfrm>
            <a:off x="5505480" y="3828960"/>
            <a:ext cx="363852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66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-360" y="1371240"/>
            <a:ext cx="92962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8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Приятни разговори подпомагат доброто храносмилане: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520" y="3124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Избягвайте гледане на телевизия по време на хранене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Избягвайте непрекъснати забележки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CJE00233" descr=""/>
          <p:cNvPicPr/>
          <p:nvPr/>
        </p:nvPicPr>
        <p:blipFill>
          <a:blip r:embed="rId1"/>
          <a:stretch/>
        </p:blipFill>
        <p:spPr>
          <a:xfrm>
            <a:off x="6373800" y="4716360"/>
            <a:ext cx="2770200" cy="21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66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101347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8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Здравето е предпоставка 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за щастие в семейството.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Хранете се така, че да 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бъдете здрави!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CPT00015" descr=""/>
          <p:cNvPicPr/>
          <p:nvPr/>
        </p:nvPicPr>
        <p:blipFill>
          <a:blip r:embed="rId1"/>
          <a:stretch/>
        </p:blipFill>
        <p:spPr>
          <a:xfrm>
            <a:off x="5908680" y="4638600"/>
            <a:ext cx="323532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66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2120" y="2895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Само малцина разбират колко много техните навици на хранене повлияват здравето, характера, полезността им в този свят  и тяхната вечна съдба.”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0" y="5790960"/>
            <a:ext cx="11810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Диета и храна, Е. Вайт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CPV00006" descr=""/>
          <p:cNvPicPr/>
          <p:nvPr/>
        </p:nvPicPr>
        <p:blipFill>
          <a:blip r:embed="rId1"/>
          <a:stretch/>
        </p:blipFill>
        <p:spPr>
          <a:xfrm>
            <a:off x="6784920" y="1676520"/>
            <a:ext cx="2359080" cy="23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66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8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Важно е да осигурим подходяща диета.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BAM00012" descr=""/>
          <p:cNvPicPr/>
          <p:nvPr/>
        </p:nvPicPr>
        <p:blipFill>
          <a:blip r:embed="rId1"/>
          <a:stretch/>
        </p:blipFill>
        <p:spPr>
          <a:xfrm>
            <a:off x="3429000" y="3886200"/>
            <a:ext cx="2541600" cy="25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66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2971440"/>
            <a:ext cx="76960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8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Много от проблемите 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в поведението 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са проблеми 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на храненето.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CJZ00111" descr=""/>
          <p:cNvPicPr/>
          <p:nvPr/>
        </p:nvPicPr>
        <p:blipFill>
          <a:blip r:embed="rId1"/>
          <a:stretch/>
        </p:blipFill>
        <p:spPr>
          <a:xfrm>
            <a:off x="380880" y="3962520"/>
            <a:ext cx="289728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66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8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Симптоми, характеризиращи това поведение: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90720" y="3124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Свръхактивност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Депресия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Раздразнителност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Непоследователност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CJX00002" descr=""/>
          <p:cNvPicPr/>
          <p:nvPr/>
        </p:nvPicPr>
        <p:blipFill>
          <a:blip r:embed="rId1"/>
          <a:stretch/>
        </p:blipFill>
        <p:spPr>
          <a:xfrm>
            <a:off x="5867280" y="3809880"/>
            <a:ext cx="2925720" cy="27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66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5998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8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ълноценното усвояване на храната понякога е проблем.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CJU00185" descr=""/>
          <p:cNvPicPr/>
          <p:nvPr/>
        </p:nvPicPr>
        <p:blipFill>
          <a:blip r:embed="rId1"/>
          <a:stretch/>
        </p:blipFill>
        <p:spPr>
          <a:xfrm>
            <a:off x="2895480" y="3581280"/>
            <a:ext cx="2632320" cy="28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66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71600" y="2819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Ако храносмилателната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система е разстроена от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неподходяща храна, умът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и нервите се повлияват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и нищожни неща стават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дразнители. Малките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облеми се превръщат в непреодолими планини.”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520" y="6095880"/>
            <a:ext cx="952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Диета и храна, Е. Вай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66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720" y="29714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8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Детската и юношеската престъпност често имат в основата си неправилна диета.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CPU00015" descr=""/>
          <p:cNvPicPr/>
          <p:nvPr/>
        </p:nvPicPr>
        <p:blipFill>
          <a:blip r:embed="rId1"/>
          <a:stretch/>
        </p:blipFill>
        <p:spPr>
          <a:xfrm>
            <a:off x="6894360" y="4579920"/>
            <a:ext cx="2249640" cy="227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4T10:45:11Z</dcterms:created>
  <dc:creator>Pacific Health</dc:creator>
  <dc:description/>
  <dc:language>en-US</dc:language>
  <cp:lastModifiedBy>Pacific Health</cp:lastModifiedBy>
  <dcterms:modified xsi:type="dcterms:W3CDTF">1998-12-08T10:19:30Z</dcterms:modified>
  <cp:revision>7</cp:revision>
  <dc:subject/>
  <dc:title>No Slide Title</dc:title>
</cp:coreProperties>
</file>